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300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416-95F5-4AB7-91FB-AA53E995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4104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C014-BD35-4CC0-AB5C-02DB0430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4104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654-A6E2-4094-A808-7357BCF4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6952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6952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4104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4104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41040"/>
            <a:ext cx="264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F974-39AC-4A4A-B640-604BA8C1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695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162-1FD7-4306-B3B1-E07C2893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7C22-968A-43D2-8458-BD97AD16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1A1-D679-409D-B041-70A0D4DE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3D39-E249-4F4B-9321-1F9893D1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54160"/>
            <a:ext cx="822960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341-E773-474C-B3CA-9168A3AE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94C-6BCD-453B-AAAF-0E580DA7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4104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E13-82E1-4723-9F8E-2DAB5C78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69520"/>
            <a:ext cx="40158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41040"/>
            <a:ext cx="8229600" cy="19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D18-3BA6-4D46-80E6-D151A6E8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4160"/>
            <a:ext cx="8229600" cy="104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695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737320"/>
            <a:ext cx="21337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737320"/>
            <a:ext cx="289584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737320"/>
            <a:ext cx="213372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B434-3F76-4CDA-9A8E-AC49578AD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864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7-02-12T04:46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